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095-D9FB-42F2-9D0B-C47B2AB9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7AB-38D7-4170-8FE3-2624AB1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44F-D7B3-4259-9B88-46CD2433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0F3-E775-4E07-8252-684A37FA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AA9-209A-49D4-9CB4-F8B080DC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AC5-6671-47A3-9D8A-439E7A80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661-F36F-45E8-9306-EDBB710D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6E4-8BF2-45D6-9825-6925A259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552-D615-46AF-A1E7-96F1111E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650-0388-46AE-A8AA-8441394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75E-9D08-4E8C-81AE-39E24EF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F7B-DDE3-41E9-A060-65FD5180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596-2AB6-40AD-AEE8-7301B3006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24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1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2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7" name=""/>
          <p:cNvGraphicFramePr/>
          <p:nvPr/>
        </p:nvGraphicFramePr>
        <p:xfrm>
          <a:off x="1631880" y="2303640"/>
          <a:ext cx="7267680" cy="39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2303640"/>
                    <a:ext cx="72676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9" name=""/>
          <p:cNvSpPr/>
          <p:nvPr/>
        </p:nvSpPr>
        <p:spPr>
          <a:xfrm>
            <a:off x="1721520" y="621972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52120" y="90792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58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65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70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82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58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4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29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48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53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4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6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przeciwsobnych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03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27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9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0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79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18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19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1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2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0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41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4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5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5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9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70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85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288120" y="515448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z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384120" y="1236600"/>
          <a:ext cx="8386920" cy="379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83869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6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19040" y="5029200"/>
            <a:ext cx="4529160" cy="898560"/>
          </a:xfrm>
          <a:custGeom>
            <a:avLst/>
            <a:gdLst/>
            <a:ahLst/>
            <a:rect l="l" t="t" r="r" b="b"/>
            <a:pathLst>
              <a:path w="2853" h="566">
                <a:moveTo>
                  <a:pt x="0" y="566"/>
                </a:moveTo>
                <a:lnTo>
                  <a:pt x="396" y="249"/>
                </a:lnTo>
                <a:lnTo>
                  <a:pt x="621" y="144"/>
                </a:lnTo>
                <a:lnTo>
                  <a:pt x="792" y="91"/>
                </a:lnTo>
                <a:lnTo>
                  <a:pt x="1089" y="36"/>
                </a:lnTo>
                <a:lnTo>
                  <a:pt x="1347" y="12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613" y="96"/>
                </a:lnTo>
                <a:lnTo>
                  <a:pt x="2741" y="144"/>
                </a:lnTo>
                <a:lnTo>
                  <a:pt x="2853" y="18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64000" y="4795920"/>
            <a:ext cx="1800" cy="113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289400" y="59259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2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693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06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4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8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19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23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9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30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3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37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40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6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8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2044440" y="2778120"/>
            <a:ext cx="393372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62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65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68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0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76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81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84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87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791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06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09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4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25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4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43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5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46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3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65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9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00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03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8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1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4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6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4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2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0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4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7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0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3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6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89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38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1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3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9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0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0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2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9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3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12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4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9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7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87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1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9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667560" y="29703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0" y="1338120"/>
            <a:ext cx="7421400" cy="48816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0560" y="31971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23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7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38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0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41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44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6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9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tero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2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5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7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4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9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73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5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7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9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1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3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5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6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8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190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77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79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2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992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998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08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12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16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25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29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33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2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46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0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63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66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1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74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328800" y="2517840"/>
            <a:ext cx="2353680" cy="1809000"/>
            <a:chOff x="6328800" y="2517840"/>
            <a:chExt cx="2353680" cy="1809000"/>
          </a:xfrm>
        </p:grpSpPr>
        <p:sp>
          <p:nvSpPr>
            <p:cNvPr id="1097" name=""/>
            <p:cNvSpPr/>
            <p:nvPr/>
          </p:nvSpPr>
          <p:spPr>
            <a:xfrm>
              <a:off x="6352200" y="2517840"/>
              <a:ext cx="19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j) - z³¹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51840" y="3038400"/>
              <a:ext cx="175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60920" y="3546360"/>
              <a:ext cx="20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8800" y="4067280"/>
              <a:ext cx="235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07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1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04-22T08:47:24Z</dcterms:modified>
  <cp:revision>60</cp:revision>
  <dc:subject/>
  <dc:title>Wzmacniacze mocy</dc:title>
</cp:coreProperties>
</file>